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3264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34680" y="761760"/>
            <a:ext cx="8991720" cy="830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tiene un lindo plan para los cristianos que murieron, los va a despertar PRIMER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os van a estar en las nubes PRIMER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os son importante para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os siempre hace todo mejo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11360" y="456840"/>
            <a:ext cx="8610480" cy="883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¿Sabes de alguien que ha muer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¿Alguna vez haz estado triste por la muerte de alguien importante para 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te envía un mensaje para que tengas paz y esperanz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os siempre da esperanz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35040" y="380520"/>
            <a:ext cx="906768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quiere que sepas que en esa persona que murió, es importante para él y no se olvid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quiere que sepas que esa persona esta como durmiendo y no esta sufrien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quiere que sepas que él le va a dar vida otra vez y estarán en el cielo con nosotr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¡Dios nunca da muerte, Dios siempre da vida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8360" y="4025520"/>
            <a:ext cx="90680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Los primero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58360" y="685800"/>
            <a:ext cx="9372600" cy="8483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y vamos a hablar de las personas más importantes para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nemos que recordar que Dios se compadece de todos nuestros problemas y enfermedad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mbién tenemos que recordar que cuando Dios nos creó, el quería que viviéramos para siemp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os nos da la vid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58360" y="151920"/>
            <a:ext cx="9372600" cy="944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ces, algunas personas que aman a Dios se enferman sin que él lo caus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nos enfermamos, o alguien que amamos se enferma, es triste para nosotros y es triste para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la Biblia hay muchas historias de Jesús sanando a mucha gen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Dios no le gustan las enfermedad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34680" y="685800"/>
            <a:ext cx="8839080" cy="830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ces oramos para que él sane a algun enfermo, y él los san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ras veces le pedimos a Dios, pero la persona no se sana. Y a veces muer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to es muy triste para nosotros y para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Dios no le gusta la muer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34680" y="228600"/>
            <a:ext cx="8991720" cy="922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alguien muere, su mente deja de trabajar. Su cuerpo deja de trabajar. Todo par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a no pueden vivir más. No vuelven a estar con nosotros por el resto de la vida en este mun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alguien muere, Dios nos ayuda a sentir paz y confiar en lo que él va a hacer con ellos un dí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os tiene un plan para sus hijos que muer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35040" y="228240"/>
            <a:ext cx="9067680" cy="929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plan de Dios para sus hijos que mueren va a suceder cuando Jesús venga por segunda vez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escogió a un hombre llamado Pablo para que nos explicara cuál es el plan de Dios para ellos y para nosotr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su primera carta a los Tesalonisenses, Pablo explica el plan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os siempre tiene un 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58720" y="228240"/>
            <a:ext cx="9220320" cy="929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blo dice que cuando venga Jesús, habrán cristianos vivos esperando su segunda venid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l vez, tu estarás vivo cuando Jesús veng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 dice que se escucharán sonidos de trompet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os siempre tiene un pla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58720" y="-360"/>
            <a:ext cx="9144000" cy="975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se va a ser el momento para que todos los hijos de Dios comiencen a subir al cielo con Jesú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ero Pablo dice que lo primero que va a pasar, es que los que murieron y por cuales estuvimos tan tristes, ellos van a resucitar primero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Van a salir de donde estaban sus cuerpos y, los que estemos vivos, vamos a ver cómo ellos van a subir a las nubes al lado de Jesús primero que nosotro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¡Los planes de Dios siempre son maravillosos!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8:35:55Z</dcterms:created>
  <dc:creator/>
  <dc:description/>
  <dc:language>en-US</dc:language>
  <cp:lastModifiedBy>Freddy Fernandez</cp:lastModifiedBy>
  <dcterms:modified xsi:type="dcterms:W3CDTF">2013-02-28T20:34:12Z</dcterms:modified>
  <cp:revision>9</cp:revision>
  <dc:subject/>
  <dc:title>Los primeros</dc:title>
</cp:coreProperties>
</file>